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0BA4-86A4-46C3-B9E0-5CE3E953E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156A-B9F0-4E77-9C26-843175623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EA3C-5FF1-4108-9E5E-5982B28C5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05C1-9DB1-4F3B-9F18-41FC513BE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08422-1AF0-49D5-9278-CF19958DB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5AF74-350B-4D57-BB5C-0BDF5625F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55041-E073-4C32-BA3F-A41554DB7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51CCF-856B-41C4-993A-07C009C9E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E9F3E-B1A6-4128-BC91-05E4027A2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1F673-4CA7-4785-9CAC-02A588C97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71476-F646-4D45-A7D1-DA6EFF2BF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0F6A-776D-4B14-903A-2600B8BCC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41712-FFD7-4F28-BB53-1D52ED5E3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7AA8D-94F0-4E14-A904-EC10A48FB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9C840-7149-4B11-BD07-E910E6FFA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965F4-0A2F-470D-940B-A16FBA19E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042C1-5071-4FB9-B15D-68D8EEAD8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0986B6-FCFB-46B2-A9F6-486C51B2F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17ADC3-01CA-4EA6-9846-EDFC1017A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A81A5D-4304-4C5C-A55A-623D9378E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2D5BED-A6BB-4A44-ACA0-D06CC8A6E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E6436E-DE68-429B-BCCA-9BA88085C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28F0-3FF8-46F6-AB43-FCBE63379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EEDA94-2D0E-4BCB-914D-49CA490AF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E8206A-97E9-4E4E-B11D-1FBFF9447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7D11EC-DE86-4FE4-B6C2-151D7DA03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07945D-E50A-4BBF-AB0C-0D7C67B48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948DA4-2D54-44A6-943E-5F786077A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386726-42B4-4F28-9F8A-551446116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518297-FA36-4326-BB6E-73FDCCE3E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B2F8F5-14AA-466C-9818-8FB3A3BAA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078BB5-5F1D-4092-A37E-698E88BAB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3D6588-AEA2-44C6-86C3-B91FAB955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19E5-F5B9-4A20-AF49-1FF5667B0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5E270D-B298-460C-B61F-5F7E38204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C231E1-019F-4AAB-A510-4A25FD0DD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FDCD75-4EE2-4218-B5F4-8E30E58C6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16C776-C6FA-4D69-98BF-3F5D428B6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E08249-8EFD-4889-B619-3CEC56414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03D11A-DDAF-4CB0-9BC5-D62DD7780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83552D-43E1-43AE-93B0-1EBE28E12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3476E9-41C3-4604-9F16-726275574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EDC92A-446F-4536-8B49-06104B161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AB5F-2CAC-408D-928A-C00438C7C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7998-447D-47B2-9ED0-99DA73255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1D7D-9409-4911-9702-3EF8D0575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3BDF-6976-4A60-9C88-CA2006615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7C8C-19BA-4445-A15E-110FAE0E7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19CC0-5CA8-43E8-8330-86ECDB7492D4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1C612-5600-48D5-AA3E-DD8AA7536723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67272-EC8F-492E-B66E-0AB3A8CB26B2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38A4B-0245-4A70-BEAF-EEEABA24D15D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8" descr="http://www.tamaqua.k12.pa.us/62602081574728870/lib/62602081574728870/math01.gif"/>
          <p:cNvPicPr/>
          <p:nvPr/>
        </p:nvPicPr>
        <p:blipFill>
          <a:blip r:embed="rId1"/>
          <a:stretch/>
        </p:blipFill>
        <p:spPr>
          <a:xfrm>
            <a:off x="380880" y="1066680"/>
            <a:ext cx="7925040" cy="5546880"/>
          </a:xfrm>
          <a:prstGeom prst="rect">
            <a:avLst/>
          </a:prstGeom>
          <a:ln w="0">
            <a:noFill/>
          </a:ln>
        </p:spPr>
      </p:pic>
      <p:sp>
        <p:nvSpPr>
          <p:cNvPr id="196" name="TextBox 6"/>
          <p:cNvSpPr/>
          <p:nvPr/>
        </p:nvSpPr>
        <p:spPr>
          <a:xfrm>
            <a:off x="-533520" y="152280"/>
            <a:ext cx="10287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Lucida Handwriting"/>
              </a:rPr>
              <a:t>BASICS OF MATH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7</a:t>
            </a: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.</a:t>
            </a: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FINDING THE LCM AND GCF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rtl="1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LCM- Least Common Multiple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rtl="1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Factor the numbers and place them in a chart</a:t>
            </a: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rtl="1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Circle the largest product of each set of numbers( prime numbers)</a:t>
            </a: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rtl="1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8</a:t>
            </a: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.</a:t>
            </a: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LCM AND GCF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Multiply the numbers( the answer will be equal to or greater than the largest number given)</a:t>
            </a: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.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9</a:t>
            </a: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.</a:t>
            </a: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GCF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rtl="1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GCF- Greatest Common Factor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rtl="1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Factor the numbers and place the answer in a char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rtl="1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Circle the smallest product in each set of numbers that are in common</a:t>
            </a: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10</a:t>
            </a: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.</a:t>
            </a: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CONVERTING FRACTION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rtl="1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Conversion #1- to change an improper fraction to a mixed number or whole number</a:t>
            </a: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rtl="1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Numerator divided by the denominator  and write the remainder as a fraction</a:t>
            </a: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457200" y="304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50920" indent="-250920" algn="r" rtl="1">
              <a:lnSpc>
                <a:spcPct val="9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Constantia"/>
              </a:rPr>
              <a:t>Conversion #2- convert a mixed number or whole number to an improper fraction</a:t>
            </a:r>
            <a:r>
              <a:rPr b="0" lang="en-US" sz="4000" spc="-1" strike="noStrike">
                <a:solidFill>
                  <a:srgbClr val="0070c0"/>
                </a:solidFill>
                <a:latin typeface="Constanti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 algn="r" rtl="1">
              <a:lnSpc>
                <a:spcPct val="9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Constantia"/>
              </a:rPr>
              <a:t>Multiply the whole number times the denominator and add the numerator. The denominator stays the same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5000" spc="-1" strike="noStrike">
              <a:solidFill>
                <a:srgbClr val="04617b"/>
              </a:solidFill>
              <a:latin typeface="Calibri"/>
              <a:ea typeface="Traditional Arabic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685800" y="457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56320" indent="-256320" algn="r" rtl="1">
              <a:lnSpc>
                <a:spcPct val="9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Constantia"/>
              </a:rPr>
              <a:t>Conversion #3- Building equivalent fractions</a:t>
            </a:r>
            <a:r>
              <a:rPr b="0" lang="en-US" sz="4000" spc="-1" strike="noStrike">
                <a:solidFill>
                  <a:srgbClr val="0070c0"/>
                </a:solidFill>
                <a:latin typeface="Constanti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 algn="r" rtl="1">
              <a:lnSpc>
                <a:spcPct val="9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Constantia"/>
              </a:rPr>
              <a:t>Divide the new denominator by the original denominator and multiply the answer by the original numerator to place the fraction in higher terms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5000" spc="-1" strike="noStrike">
              <a:solidFill>
                <a:srgbClr val="04617b"/>
              </a:solidFill>
              <a:latin typeface="Calibri"/>
              <a:ea typeface="Traditional Arabic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609480" y="609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lnSpc>
                <a:spcPct val="9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Constantia"/>
              </a:rPr>
              <a:t>Conversion #4- Simplest form or Reducing fractions</a:t>
            </a:r>
            <a:r>
              <a:rPr b="0" lang="en-US" sz="4000" spc="-1" strike="noStrike">
                <a:solidFill>
                  <a:srgbClr val="0070c0"/>
                </a:solidFill>
                <a:latin typeface="Constanti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9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Constantia"/>
              </a:rPr>
              <a:t>Prime factor the numerator and denominator then cancel the common numbers. Multiply the top and bottom to finish reducing</a:t>
            </a:r>
            <a:r>
              <a:rPr b="0" lang="en-US" sz="4000" spc="-1" strike="noStrike">
                <a:solidFill>
                  <a:srgbClr val="0070c0"/>
                </a:solidFill>
                <a:latin typeface="Constanti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11</a:t>
            </a: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.</a:t>
            </a: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ADDITION OF FRACTION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Find the LCM(LCD) of the denominators. Use the LCM process, if needed</a:t>
            </a: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Place the fractions in higher terms (conv. # 3)</a:t>
            </a: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12</a:t>
            </a: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.</a:t>
            </a: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ADDI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rtl="1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Add the numerators ONLY</a:t>
            </a: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rtl="1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Place the answer in simplest form by using conversions # 1 and/or #4. You may use one , both, or neither</a:t>
            </a: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rtl="1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Add the whole numbers</a:t>
            </a: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0000"/>
                </a:solidFill>
                <a:latin typeface="Calibri"/>
              </a:rPr>
              <a:t>13</a:t>
            </a:r>
            <a:r>
              <a:rPr b="0" lang="en-US" sz="4500" spc="-1" strike="noStrike">
                <a:solidFill>
                  <a:srgbClr val="ff0000"/>
                </a:solidFill>
                <a:latin typeface="Calibri"/>
              </a:rPr>
              <a:t>.</a:t>
            </a:r>
            <a:r>
              <a:rPr b="0" lang="en-US" sz="4500" spc="-1" strike="noStrike">
                <a:solidFill>
                  <a:srgbClr val="ff0000"/>
                </a:solidFill>
                <a:latin typeface="Calibri"/>
              </a:rPr>
              <a:t>SUBTRACTION OF FRACTION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Find the LCM(LCD) of the denominators. Use the LCM process, if needed</a:t>
            </a: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Place the fractions in higher terms</a:t>
            </a: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1</a:t>
            </a: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. </a:t>
            </a: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WHOLE NUMBER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 rtl="1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Memorize the place values from ones(units) through trillions to see the pattern</a:t>
            </a: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rtl="1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Write 26,709 in standard form</a:t>
            </a: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rtl="1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Twenty-six thousand seven hundred nine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14</a:t>
            </a: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.</a:t>
            </a: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SUBTRAC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Subtract the numerators, borrow if needed</a:t>
            </a: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Reduce , if needed</a:t>
            </a: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Subtract the whole numbers</a:t>
            </a: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15</a:t>
            </a: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.</a:t>
            </a: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MULTIPLYING FRACTION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245520" indent="-245520" rtl="1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Change the mixed nos. or whole nos. to improper fractions</a:t>
            </a: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 rtl="1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 </a:t>
            </a: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Early reducing ( cross-cancel)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 rtl="1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Multiply numerators and denominators</a:t>
            </a: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 rtl="1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Change improper to mixed nos</a:t>
            </a: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16</a:t>
            </a: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.</a:t>
            </a: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DIVISION OF FRACTION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rtl="1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Change mixed nos. or whole nos. to improper fractions</a:t>
            </a: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rtl="1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 </a:t>
            </a: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Change division to multiplication and invert the fraction after the divided by symbol</a:t>
            </a: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17</a:t>
            </a: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.</a:t>
            </a: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DIVIS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rtl="1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Early-reducing(cross-cancel)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rtl="1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Multiply numerators and denominators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rtl="1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Change an improper fraction to a mixed no. and reduce the proper fraction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18</a:t>
            </a: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.</a:t>
            </a: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Order Rela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To compare two fractions with different denominators; find the common denominator, place the fractions in higher terms, then compare the numerators and place the correct inequality symbol between the fractions</a:t>
            </a: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.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                                                                    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19</a:t>
            </a: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.</a:t>
            </a: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Order of Operation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Use PEMDAS the same way as Chapter 1</a:t>
            </a: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P</a:t>
            </a: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- (……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E -5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M- 3*3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D - 6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A- 5+5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S -  5-3</a:t>
            </a: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TextBox 3"/>
          <p:cNvSpPr/>
          <p:nvPr/>
        </p:nvSpPr>
        <p:spPr>
          <a:xfrm>
            <a:off x="1523880" y="30481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4"/>
          <p:cNvSpPr/>
          <p:nvPr/>
        </p:nvSpPr>
        <p:spPr>
          <a:xfrm>
            <a:off x="1219320" y="373392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70c0"/>
                </a:solidFill>
                <a:latin typeface="Times New Roman"/>
                <a:ea typeface="Majalla UI"/>
              </a:rPr>
              <a:t>÷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Box 5"/>
          <p:cNvSpPr/>
          <p:nvPr/>
        </p:nvSpPr>
        <p:spPr>
          <a:xfrm>
            <a:off x="1600200" y="3809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20</a:t>
            </a: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.</a:t>
            </a: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Solving for the Unknow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If the variable and fraction are connected by addition use subtraction in both sides of the equation to solve the unknown</a:t>
            </a: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If they are connected by subtraction use addition on both sides to solve</a:t>
            </a: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If the variable and unknown are connected by multiplication use division on both sides</a:t>
            </a: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0000"/>
                </a:solidFill>
                <a:latin typeface="Calibri"/>
              </a:rPr>
              <a:t>21</a:t>
            </a:r>
            <a:r>
              <a:rPr b="0" lang="en-US" sz="4500" spc="-1" strike="noStrike">
                <a:solidFill>
                  <a:srgbClr val="ff0000"/>
                </a:solidFill>
                <a:latin typeface="Calibri"/>
              </a:rPr>
              <a:t>.</a:t>
            </a:r>
            <a:r>
              <a:rPr b="0" lang="en-US" sz="4500" spc="-1" strike="noStrike">
                <a:solidFill>
                  <a:srgbClr val="ff0000"/>
                </a:solidFill>
                <a:latin typeface="Calibri"/>
              </a:rPr>
              <a:t>Addition and Subtraction of Decimal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Add and subtract decimals just the same as whole numbers and place the decimal point in the answer</a:t>
            </a: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22</a:t>
            </a: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.</a:t>
            </a: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Multiplying Decimal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Count the total number of place values in all of the numbers</a:t>
            </a: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Set the problem up like whole numbers and multiply</a:t>
            </a: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Move the decimal point from right to left in the answer</a:t>
            </a: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23</a:t>
            </a: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.</a:t>
            </a: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Division of Decimal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Make the divisor a whole number by moving the decimal point</a:t>
            </a: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Move the decimal point the same number of places on the dividend</a:t>
            </a: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Divide the same as whole numbers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Write five thousand forty-four in standard form</a:t>
            </a: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5,044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Write 200,493 in expanded form</a:t>
            </a: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200,000+400+90+3</a:t>
            </a: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0000"/>
                </a:solidFill>
                <a:latin typeface="Calibri"/>
              </a:rPr>
              <a:t>24</a:t>
            </a:r>
            <a:r>
              <a:rPr b="0" lang="en-US" sz="4500" spc="-1" strike="noStrike">
                <a:solidFill>
                  <a:srgbClr val="ff0000"/>
                </a:solidFill>
                <a:latin typeface="Calibri"/>
              </a:rPr>
              <a:t>.</a:t>
            </a:r>
            <a:r>
              <a:rPr b="0" lang="en-US" sz="4500" spc="-1" strike="noStrike">
                <a:solidFill>
                  <a:srgbClr val="ff0000"/>
                </a:solidFill>
                <a:latin typeface="Calibri"/>
              </a:rPr>
              <a:t>Converting a Fraction to a Decimal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To change a fraction to a decimal: NUMERATOR divided by the DENOMINATOR. Round if asked to in the directions or the answer will terminate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0000"/>
                </a:solidFill>
                <a:latin typeface="Calibri"/>
              </a:rPr>
              <a:t>25</a:t>
            </a:r>
            <a:r>
              <a:rPr b="0" lang="en-US" sz="4500" spc="-1" strike="noStrike">
                <a:solidFill>
                  <a:srgbClr val="ff0000"/>
                </a:solidFill>
                <a:latin typeface="Calibri"/>
              </a:rPr>
              <a:t>.</a:t>
            </a:r>
            <a:r>
              <a:rPr b="0" lang="en-US" sz="4500" spc="-1" strike="noStrike">
                <a:solidFill>
                  <a:srgbClr val="ff0000"/>
                </a:solidFill>
                <a:latin typeface="Calibri"/>
              </a:rPr>
              <a:t>Change a Decimal to a Fraction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Write the decimal as a fraction by using a multiple of 10 in the denominator and the number part in the numerator</a:t>
            </a: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Reduce the answer if possible</a:t>
            </a: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0000"/>
                </a:solidFill>
                <a:latin typeface="Calibri"/>
              </a:rPr>
              <a:t>26</a:t>
            </a:r>
            <a:r>
              <a:rPr b="0" lang="en-US" sz="4500" spc="-1" strike="noStrike">
                <a:solidFill>
                  <a:srgbClr val="ff0000"/>
                </a:solidFill>
                <a:latin typeface="Calibri"/>
              </a:rPr>
              <a:t>.</a:t>
            </a:r>
            <a:r>
              <a:rPr b="0" lang="en-US" sz="4500" spc="-1" strike="noStrike">
                <a:solidFill>
                  <a:srgbClr val="ff0000"/>
                </a:solidFill>
                <a:latin typeface="Calibri"/>
              </a:rPr>
              <a:t>Change a Decimal with a Fraction to a Fraction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Drop the decimal point and multiply the mixed number times 1 over 100</a:t>
            </a: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27</a:t>
            </a: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.</a:t>
            </a: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Ratios and Rat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rtl="1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Ratio- A comparison of two quantities with the same units( apples to apples…etc.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rtl="1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Write the ratio as a fraction in simplest form(reduce) then with a colon (: ) and the word ( to )</a:t>
            </a: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rtl="1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Rate- A comparison of two quantities that different units( apples to oranges…etc.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rtl="1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Write as a fraction and reduce then STOP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28</a:t>
            </a: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.</a:t>
            </a: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Unit Rat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Unit Rate- A comparison of two quantities that have different units per 1</a:t>
            </a: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Write the unit rate as a rate(fraction) then divide: NUMERATOR divided by the DENOMINATOR. This will make the answer per 1</a:t>
            </a: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Label the answer</a:t>
            </a: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.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r>
              <a:rPr b="0" lang="en-US" sz="4500" spc="-1" strike="noStrike">
                <a:solidFill>
                  <a:srgbClr val="ff0000"/>
                </a:solidFill>
                <a:latin typeface="Calibri"/>
              </a:rPr>
              <a:t>29</a:t>
            </a:r>
            <a:r>
              <a:rPr b="0" lang="en-US" sz="4500" spc="-1" strike="noStrike">
                <a:solidFill>
                  <a:srgbClr val="ff0000"/>
                </a:solidFill>
                <a:latin typeface="Calibri"/>
              </a:rPr>
              <a:t>.</a:t>
            </a:r>
            <a:r>
              <a:rPr b="0" lang="en-US" sz="4500" spc="-1" strike="noStrike">
                <a:solidFill>
                  <a:srgbClr val="ff0000"/>
                </a:solidFill>
                <a:latin typeface="Calibri"/>
              </a:rPr>
              <a:t>Proportion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rtl="1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Proving the proportion True or Not True</a:t>
            </a: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rtl="1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Cross-multiply: If the answers are the same it is a True (T) proportion. If the answers are not the same it is a Not True (NT) proportion</a:t>
            </a: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rtl="1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Solve for n: Cross-multiply the common numbers and divide the number across from n</a:t>
            </a: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 rtl="1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30</a:t>
            </a: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.</a:t>
            </a: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More Proportion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Word problems: Write the two rates with like units in both numerators and like units in both denominators</a:t>
            </a: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Cross-multiply and divide the number across from n</a:t>
            </a: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31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.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Converting Between Fractions, Decimals, and Percent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Change a percent to a decimal (then to a fraction)</a:t>
            </a: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Move the decimal point TWO places from left to right and drop the percent symbol. Multiply by 0.01</a:t>
            </a: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Change the decimal to a fraction and reduce if needed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0000"/>
                </a:solidFill>
                <a:latin typeface="Calibri"/>
              </a:rPr>
              <a:t>32</a:t>
            </a:r>
            <a:r>
              <a:rPr b="0" lang="en-US" sz="4500" spc="-1" strike="noStrike">
                <a:solidFill>
                  <a:srgbClr val="ff0000"/>
                </a:solidFill>
                <a:latin typeface="Calibri"/>
              </a:rPr>
              <a:t>.</a:t>
            </a:r>
            <a:r>
              <a:rPr b="0" lang="en-US" sz="4500" spc="-1" strike="noStrike">
                <a:solidFill>
                  <a:srgbClr val="ff0000"/>
                </a:solidFill>
                <a:latin typeface="Calibri"/>
              </a:rPr>
              <a:t>Change a Decimal to a Percent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To change a decimal: Move the decimal point TWO places from left to right or multiply by 100%</a:t>
            </a: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If the decimal has a fraction move the decimal point TWO places from left to right and drop the decimal point</a:t>
            </a: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0000"/>
                </a:solidFill>
                <a:latin typeface="Calibri"/>
              </a:rPr>
              <a:t>33</a:t>
            </a:r>
            <a:r>
              <a:rPr b="0" lang="en-US" sz="4500" spc="-1" strike="noStrike">
                <a:solidFill>
                  <a:srgbClr val="ff0000"/>
                </a:solidFill>
                <a:latin typeface="Calibri"/>
              </a:rPr>
              <a:t>.</a:t>
            </a:r>
            <a:r>
              <a:rPr b="0" lang="en-US" sz="4500" spc="-1" strike="noStrike">
                <a:solidFill>
                  <a:srgbClr val="ff0000"/>
                </a:solidFill>
                <a:latin typeface="Calibri"/>
              </a:rPr>
              <a:t>Change a Fraction to a Percent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Change the fraction to a decimal ( numerator divided by denominator) first</a:t>
            </a: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Move the decimal point TWO places from left to right</a:t>
            </a: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In the division, if the answer does not terminate by hundredths, write the remainder as a fraction in simplest form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US" sz="4500" spc="-1" strike="noStrike">
                <a:solidFill>
                  <a:srgbClr val="ff0000"/>
                </a:solidFill>
                <a:latin typeface="Calibri"/>
              </a:rPr>
              <a:t>.</a:t>
            </a:r>
            <a:r>
              <a:rPr b="0" lang="en-US" sz="4500" spc="-1" strike="noStrike">
                <a:solidFill>
                  <a:srgbClr val="ff0000"/>
                </a:solidFill>
                <a:latin typeface="Calibri"/>
              </a:rPr>
              <a:t>MULYIPLYING WHOLE NUMBER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rtl="1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Memorize the multiplication table up to 12 x 12</a:t>
            </a: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rtl="1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Factors- numbers that are multiplied together to equal a PRODUCT( the answer to a multiplication problem)</a:t>
            </a: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3808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Round to the nearest tenth ( of a percent )</a:t>
            </a: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Change the fraction to a decimal to the ten-thousandths place value</a:t>
            </a: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Move the decimal point TWO places from left to right and round the percent to the nearest tenth of a percent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0000"/>
                </a:solidFill>
                <a:latin typeface="Calibri"/>
              </a:rPr>
              <a:t>34</a:t>
            </a:r>
            <a:r>
              <a:rPr b="0" lang="en-US" sz="4500" spc="-1" strike="noStrike">
                <a:solidFill>
                  <a:srgbClr val="ff0000"/>
                </a:solidFill>
                <a:latin typeface="Calibri"/>
              </a:rPr>
              <a:t>.</a:t>
            </a:r>
            <a:r>
              <a:rPr b="0" lang="en-US" sz="4500" spc="-1" strike="noStrike">
                <a:solidFill>
                  <a:srgbClr val="ff0000"/>
                </a:solidFill>
                <a:latin typeface="Calibri"/>
              </a:rPr>
              <a:t>Change a Percent with a Fraction to a Fraction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If the percent has a fraction in it: Drop the % symbol and multiply by 1 OVER 100 to convert to a fraction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76212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Constantia"/>
              </a:rPr>
              <a:t>From</a:t>
            </a:r>
            <a:r>
              <a:rPr b="0" lang="en-US" sz="6000" spc="-1" strike="noStrike">
                <a:solidFill>
                  <a:srgbClr val="ff0000"/>
                </a:solidFill>
                <a:latin typeface="Constantia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b050"/>
                </a:solidFill>
                <a:uFillTx/>
                <a:latin typeface="Constantia"/>
              </a:rPr>
              <a:t>www.csi.edu/facultyAndStaff_/.../sites/.../</a:t>
            </a:r>
            <a:r>
              <a:rPr b="1" lang="en-US" sz="1800" spc="-1" strike="noStrike" u="sng">
                <a:solidFill>
                  <a:srgbClr val="00b050"/>
                </a:solidFill>
                <a:uFillTx/>
                <a:latin typeface="Constantia"/>
              </a:rPr>
              <a:t>math</a:t>
            </a:r>
            <a:r>
              <a:rPr b="0" lang="en-US" sz="1800" spc="-1" strike="noStrike" u="sng">
                <a:solidFill>
                  <a:srgbClr val="00b050"/>
                </a:solidFill>
                <a:uFillTx/>
                <a:latin typeface="Constantia"/>
              </a:rPr>
              <a:t>%20009%20slides.ppt</a:t>
            </a:r>
            <a:r>
              <a:rPr b="0" lang="en-US" sz="1800" spc="-1" strike="noStrike" u="sng">
                <a:solidFill>
                  <a:srgbClr val="00b050"/>
                </a:solidFill>
                <a:uFillTx/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TextBox 3"/>
          <p:cNvSpPr/>
          <p:nvPr/>
        </p:nvSpPr>
        <p:spPr>
          <a:xfrm>
            <a:off x="838080" y="4572000"/>
            <a:ext cx="7772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f0"/>
                </a:solidFill>
                <a:latin typeface="Lucida Handwriting"/>
              </a:rPr>
              <a:t>By : Manar Al- Shahran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f0"/>
                </a:solidFill>
                <a:latin typeface="Lucida Handwriting"/>
              </a:rPr>
              <a:t>Grade :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f0"/>
                </a:solidFill>
                <a:latin typeface="Lucida Handwriting"/>
              </a:rPr>
              <a:t> </a:t>
            </a:r>
            <a:r>
              <a:rPr b="0" lang="en-US" sz="3600" spc="-1" strike="noStrike">
                <a:solidFill>
                  <a:srgbClr val="00b0f0"/>
                </a:solidFill>
                <a:latin typeface="Wingdings"/>
                <a:ea typeface="Wingdings"/>
              </a:rPr>
              <a:t></a:t>
            </a:r>
            <a:r>
              <a:rPr b="0" lang="en-US" sz="3600" spc="-1" strike="noStrike">
                <a:solidFill>
                  <a:srgbClr val="00b0f0"/>
                </a:solidFill>
                <a:latin typeface="Lucida Handwriting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0000"/>
                </a:solidFill>
                <a:latin typeface="Calibri"/>
              </a:rPr>
              <a:t>3</a:t>
            </a:r>
            <a:r>
              <a:rPr b="0" lang="en-US" sz="4500" spc="-1" strike="noStrike">
                <a:solidFill>
                  <a:srgbClr val="ff0000"/>
                </a:solidFill>
                <a:latin typeface="Calibri"/>
              </a:rPr>
              <a:t>.</a:t>
            </a:r>
            <a:r>
              <a:rPr b="0" lang="en-US" sz="4500" spc="-1" strike="noStrike">
                <a:solidFill>
                  <a:srgbClr val="ff0000"/>
                </a:solidFill>
                <a:latin typeface="Calibri"/>
              </a:rPr>
              <a:t>DIVISION OF WHOLE NUMBER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rtl="1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Division is used to separate objects into equal groups</a:t>
            </a: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rtl="1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Quotient- the answer to a division problem</a:t>
            </a: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rtl="1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Most mistakes in division are made in the subtraction portion</a:t>
            </a: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4</a:t>
            </a: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.</a:t>
            </a: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EXPONENT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rtl="1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Base- the number being multiplied</a:t>
            </a: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rtl="1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Exponent- the number to the top right of the base telling you how many times the number by itself</a:t>
            </a: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0000"/>
                </a:solidFill>
                <a:latin typeface="Calibri"/>
              </a:rPr>
              <a:t>5</a:t>
            </a:r>
            <a:r>
              <a:rPr b="0" lang="en-US" sz="4500" spc="-1" strike="noStrike">
                <a:solidFill>
                  <a:srgbClr val="ff0000"/>
                </a:solidFill>
                <a:latin typeface="Calibri"/>
              </a:rPr>
              <a:t>.</a:t>
            </a:r>
            <a:r>
              <a:rPr b="0" lang="en-US" sz="4500" spc="-1" strike="noStrike">
                <a:solidFill>
                  <a:srgbClr val="ff0000"/>
                </a:solidFill>
                <a:latin typeface="Calibri"/>
              </a:rPr>
              <a:t>ORDER OF OPERATIONS AGREEMENT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rtl="1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Do all operations inside parentheses( other grouping symbols as well)</a:t>
            </a: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rtl="1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Solve exponents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rtl="1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Multiply and divide as they occur from left to right</a:t>
            </a: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685800" y="20574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48040" indent="-248040" rtl="1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#2</a:t>
            </a: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- </a:t>
            </a: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is the number an even number? Yes- start with 2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 rtl="1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N0- go to question #3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 rtl="1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Add the digits of the number together, if the answer is divisible by 3-Yes- start with 3</a:t>
            </a: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Rectangle 2"/>
          <p:cNvSpPr/>
          <p:nvPr/>
        </p:nvSpPr>
        <p:spPr>
          <a:xfrm>
            <a:off x="990720" y="685800"/>
            <a:ext cx="6476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6.PRIME FACTO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rtl="1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No- go to question #4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rtl="1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Does the number end with a 5</a:t>
            </a: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?     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rtl="1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Yes- start with 5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rtl="1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  </a:t>
            </a: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N0- start with </a:t>
            </a: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7 and continue until a prime number works ( hit or miss)</a:t>
            </a: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Rectangle 2"/>
          <p:cNvSpPr/>
          <p:nvPr/>
        </p:nvSpPr>
        <p:spPr>
          <a:xfrm>
            <a:off x="1371600" y="533520"/>
            <a:ext cx="6019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6.PRIME FACTO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9T20:47:02Z</dcterms:created>
  <dc:creator>Jim Dawson</dc:creator>
  <dc:description/>
  <dc:language>en-US</dc:language>
  <cp:lastModifiedBy>Abdulaziz Al-Shahrani</cp:lastModifiedBy>
  <dcterms:modified xsi:type="dcterms:W3CDTF">2010-12-23T14:20:30Z</dcterms:modified>
  <cp:revision>71</cp:revision>
  <dc:subject/>
  <dc:title>PowerPoint Presentation</dc:title>
</cp:coreProperties>
</file>